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18E-3144-400B-9CF6-A9DCABA0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EB8-269E-4EC7-93F2-21466A5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73A-8BA3-4DCE-A608-6BEA8DFB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842-8494-4A32-BD8E-175B6EFA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7B3-29D1-491E-8D83-5D3480BA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306-AF7C-4918-A6CF-0FA8D231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3BC-2219-487C-9A5A-109B6E8A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C79-E3B0-4146-ADE1-FB7A2FF6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DE6-4C20-49F9-A548-3814740B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15F-EA1F-4925-8297-20ADC53F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19E-D838-4751-AD41-92BCC5B9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FE3-3304-4A26-8C3E-F47AEE10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87B1-865F-40FB-8804-4C1FD0C97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s: Arial 12pt          Lines: 1.75pt          Zoom: 66%          width: Preferred &lt;518px; Max 560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819520"/>
            <a:ext cx="1828800" cy="1371600"/>
          </a:xfrm>
          <a:prstGeom prst="rect">
            <a:avLst/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PC23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7 Ba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controll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505320"/>
            <a:ext cx="685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3124080"/>
            <a:ext cx="533160" cy="762120"/>
          </a:xfrm>
          <a:prstGeom prst="rect">
            <a:avLst/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50532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000" y="320040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AR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0560" y="3200400"/>
            <a:ext cx="49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5295600" y="2933640"/>
            <a:ext cx="1219320" cy="1143000"/>
          </a:xfrm>
          <a:prstGeom prst="triangle">
            <a:avLst>
              <a:gd name="adj" fmla="val 50000"/>
            </a:avLst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09000" y="3276720"/>
            <a:ext cx="68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505320"/>
            <a:ext cx="6098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ound"/>
          <p:cNvSpPr/>
          <p:nvPr/>
        </p:nvSpPr>
        <p:spPr>
          <a:xfrm>
            <a:off x="7010280" y="2971800"/>
            <a:ext cx="1067040" cy="1123920"/>
          </a:xfrm>
          <a:prstGeom prst="pie">
            <a:avLst/>
          </a:prstGeom>
          <a:solidFill>
            <a:srgbClr val="e0e0e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27672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9:33:50Z</dcterms:created>
  <dc:creator>Brett Duke</dc:creator>
  <dc:description/>
  <dc:language>en-US</dc:language>
  <cp:lastModifiedBy>Jim Earle</cp:lastModifiedBy>
  <dcterms:modified xsi:type="dcterms:W3CDTF">2007-12-17T13:39:53Z</dcterms:modified>
  <cp:revision>35</cp:revision>
  <dc:subject/>
  <dc:title>Generic Block Diagram</dc:title>
</cp:coreProperties>
</file>